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594-2D27-46C9-A96B-22A00BAE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1F4-C339-420B-9708-BF20FE7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7BC-6E58-43E8-A0AD-23E98E9B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7DA-A500-4A43-8159-EAA06B0C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BDDA-B85C-4597-8E18-F96C84C4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A7BE-6832-4F1D-A6D5-3CEB5E7D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832-798A-405A-8FA2-9DB9D23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012D-AB60-486B-9CBA-DED584BF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90A-A7A7-4782-BBA2-0BA6F2CA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39BB-116F-455B-A6F0-84EF3FBF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AE2A-DCAE-44E3-B852-7688B3D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101-A446-4561-8EFE-75A5DB2F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5EB-ED04-4F0A-835A-835CE2C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CA8D-2A5B-43A8-A730-A9D95B2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CC95-49F7-41E8-8507-4CFB740C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BD2-8A24-4A26-8CD1-4A4977FF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C939-0725-48EE-AFD5-6DEE859F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49C-96ED-4805-B2AF-8E3FC42D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3F7-A240-4FED-B76E-7DDADBEE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3B7-CB64-473B-BF90-A77AF6C3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FD9-4216-4CA4-A2EA-13E21E20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B65-48E8-46B5-8793-934A6FC5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AC1-FB2B-4628-A7CC-CC96B66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81A-0158-4F40-94B8-2BD7E5F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0263-2010-4678-95FC-DE68A3C8E1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BA3E-DB90-40FE-9064-1B5A98E66F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14:  Lymphatic System and 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encapsulated Tiss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nsils—located in your posterior nasopharyn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t Associated Lymphoid Tissue (GALT)—lies under the mucosa of the esophagus and intest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usters of lymphoid tissue in respiratory tract and sk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atic Syst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is a clear fluid that is driven through hydrostatic pressure from the interstitial spaces into the lymphatic capilla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cular activity—major driving force of lymph through the lymphatic vesse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low of Lymp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ce lymph enters a lymphatic vessel, valves prevent lymph from flowing backward (back toward the interstitial spa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can only move toward a collecting duct thanks to these valve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it moves through vessels, it is filtered periodically by lymph nod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ymphatic Pathway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gure 14.5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uid in interstitial spac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atic vess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nod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atic vess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atic trun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cting Duct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clavian Vein (where it re-enters the bloodstrea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llecting Du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ymphatic trunks join one of two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oracic du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ight lymphatic du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oracic Du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r and longer collecting 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ves lymph from lower limbs, abdominal regions, left upper limb, left side of head, thorax, ne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pties into the left subclavian vein near the junction of the left jugular v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ght Lymphatic Du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cts lymph from right side of head and neck, right upper limb, right thora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pties into the right subclavian vein near the junction of the jugular v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de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thing that interferes with the flow of lymph can cause a back-up of interstitial fluid in an area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causes swelling—aka. Ed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can happen from something (like position or turnicate) obstructing the flow of lymph or from surgical removal of lymph nod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lling due to malfunction of lymph flow=lymphed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 No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 in size and shape—on average are bean-shaped and approx. 2.5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ymphatic sinus—space inside the n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ymphatic sinus contains many macrophages (highly concentrated he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located everywhere on the body except the CENTRAL NERVOUS SYSTEM (brain and spinal cor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 Node Physi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nodes have two main func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ltering harmful particles from lymph before it returns to the bloodstre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mune surveillance by lymphocytes and macroph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, they produce lymphocytes along w/ the red bone marrow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ility of the body to protect itself from disease causing invaders called pathog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om the Latin word “immunis”--exem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ocytes and Macrophag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ocytes—attack invaders that enter the lymph n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crophages--engulf and destroy foreign substances, damaged cells, and cellular debr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ym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ted posterior to the upper sternum (breast bone); upper ch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 during infancy and childh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rinks after pub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elderly—tissue is gradually replaced by adipose (fat) and connective t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70 years—it is one-tenth the size that it was when a person is 10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ymus Physi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ymus contains immature cells called thymocy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can be inactive.  However, when needed they can mature into T-cells (T-lymphocyt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ells are important in immun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ymus epithelial cells also secrete hormones called thymosins, stimulate T-cells to mature as they migrate to other tissu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le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rgest lymphatic or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ted in the upper abdomen to the left of the stomach (on left s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rt of like a large lymph node except instead of inner space having lymph, it has bl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le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 two types of tissu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te pulp—like splattered islands around the space; contains many lymphoc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 pulp—Contains many red blood cells, plus lymphocytes and macroph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le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lenectomy—removal of the sple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lenitis—inflammation of the sple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r body has two ways to defend against infection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nate (nonspecific) defen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aptive (specific) defen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nate (Nonspecific) Defe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six basic types of innate defen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cies Resist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chanical B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B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lam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agocyt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nate (Nonspecific) Defe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es resistance—a given organism develops a set of diseases that is unique to it but it will be resistant to other disease because the conditions in our body are not ideal for every patho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Other animal species do not get measles, mumps, gonorrhea, syphil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chanical Barr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kin and the mucous membranes of the respiratory, digestive, urinary, and reproductive systems create mechanical barriers that prevent the entry of pathog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barriers are a “first line of defense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mune Syst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sts of lymphoid tissues of the body, the immune cells, and chemicals that coordinate and execute the immune fun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emical Barr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s in body fluids are chemicals that provide a chemical resistance, or barrier, to pathog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Protein-splitting enzyme pepsin in the stomach; enzyme, lysozyme, in tears; salt (from sweat) on the sk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emical Barr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on—hormone-like peptides made by lymphocytes and fibroblasts in response to cells with viral infection or tumor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on—binds to receptors on the outside of healthy cel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ls synthesize proteins that block the replication of viru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on—stimulates phagocytosis, also; helps resist infection and kill tumor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v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ver—elevated body temperature\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teria and fungii require iron as temperature ri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body temperature stimulates liver and spleen to hoard iron so it is out of the bl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slows the growth of bacteria and fungii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v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body temperature also increases the activity of phagocy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w-grade fever is actually a healthy response by the body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medicate unless you have a high fever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flam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lammation—tissue response to injury or infection categorized by localized redness, swelling, heat, and pai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uses the site of the problem to be “walled” off or isolated so that it cannot spre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agocytic cells includ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utrophi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oc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cells can leave the blood by squeezing between the cells of blood vessel walls=diaped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s from injured tissues attract these cells (chemotax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aptive (Specific) Defen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ptive (Specific) Defenses=Immun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our “third line of defen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what our bodies develop in response to a particular patho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tig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the surface of all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 a protein, a polysaccharide, glycoprotein, or glycolip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cognizing “Self”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birth, cells go around to body cells &amp; “take inventory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how your body determines which cells are “self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as your immune system develops after birth, it recognizes any other type of cell as “foreign or non-self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cognizing “Nonself”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birth, the body really begins developing its immune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produces lymphocytes that go around to the cells of the body and recognize the foreign antigens as “nonself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unctions of the Immune Syste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e System has 3 main func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 the body from pathog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ove dead or damaged tissue and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ognize and remove abnormal cells that have abnormal cell growth and development (i.e. cancer cel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ajor Histiocompatibility Complex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, MH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l membrane proteins that are coded by certain ge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HC on the outside of your cells is recognized by your body’s lymphocy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ymphocyt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the cells primarily responsible for the immune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types: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lymphocytes—T-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-lymphocytes—B-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 Mediated 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, Cellular Immune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-cells are primarily responsible for this immune 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l mediated, the t-cells attach to foreign antigen cells and interact directly by cell to cell cont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 Mediated Immun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l ingests or is infected with pathoge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thogen breaks up inside the cell and pieces of it bind to the MHC on the cell membrane. “Presents the antige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-cells then bind to the antigen presenting c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 Mediated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per T-cells—release cytokines to call other cells to the area to help and/or ingest the infected c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totoxic T-cells—form protein channel (hole) called perforin in cell membrane of infected cell.  It then injects granzym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poptosis(death) of c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ral Immune Respo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, Antibody Mediated Immune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d by the B-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-cells secrete antibodies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bodies bind to pathogen and target them for de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ure B-cells insert antibodies into their cell membrane to form recep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ral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ceptor on B-cell attaches to the antig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ntibody goes to w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tibodi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it easier for phagocytic cells to eat infected or antigen bearing molecu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vering antigen-presenting cell or molecule in “envelope” and inactivating the antig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ivating complement prote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lement Protei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ment has a variety of func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hancing phagocyt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racting macrophages and neutrophi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upturing cell membranes of foreign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ing antigen-bearing agents to “clump” making it easier to get them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tering the molecular structure of viruses so that they can’t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 Types of Antibod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G (IgG)—in plasma and tissue fluids; effective against virus, bacteria, &amp; toxins; activate complement; babies get from mom through cor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sts 6 months to 1 y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A (IgA)—in exocrine gland secretions (sweat glands); breast milk, tears, nasal fluid, bile, urine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5 Types Antibodies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M (IgM)—develops in response to foods or bac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D (IgD)—found on surfaces of B-cells; important to B-cell acti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munoglobulin E (IgE)—in exocrine secretions along w IgA; ASSOCIATED WITH ALLERGIC RE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thog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 bacteria, viruses, fungii, one-celled protozoans, multicellular parasites (i.e. hookwor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teria and viruses are the most common pathoge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imary/Secondary Respon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moral Response—primary response and secondary respon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ary response—the initial response that occurs with infection (by effector B-cel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ary response—the lasting immunity provided by long lasting memory B-cells (live a long time and wait to see if pathoge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cc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get an infection, your body develops resistance the natural way.  (Naturally Acquired Immunit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vaccine gives you resistance artificially. (Artificially Acquired Immunit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made of live/weakened or dead pathogen and creates an immune response that prevents infection without causing illn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teria Vs. Viru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w the diagram from the board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tomy of the Immune Syst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mary lymphatic tissues—thymus gland, bone marrow; where cells involved in the immune response grow &amp; m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ary lymphatic tissues—two typ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apsu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encapsu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ncapsulated Tiss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mph nodes—located along the pathway of lymphatic circulation; filters lym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grab invaders that enter the lymph system by breaks in the skin or mucous membra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ncapsulated contin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leen—traps and removes aging red blood cells with the help of phagocytes; contains immune cells to capture foreign inv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34:27Z</dcterms:created>
  <dc:creator>kmcgrady</dc:creator>
  <dc:description/>
  <dc:language>en-US</dc:language>
  <cp:lastModifiedBy>kmcgrady</cp:lastModifiedBy>
  <dcterms:modified xsi:type="dcterms:W3CDTF">2009-02-03T21:08:17Z</dcterms:modified>
  <cp:revision>50</cp:revision>
  <dc:subject/>
  <dc:title>Chapter 14:  Lymphatic System and Immunity</dc:title>
</cp:coreProperties>
</file>